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CE10-9271-411D-B39A-B9270622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1EBD-8A74-477D-9335-2B2E1802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40E0-2186-4BE8-B9A9-A656C7AD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9F16-E1BC-4A77-9382-D1530FF7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58A7-E621-4BCA-9E0F-56A8E9E1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DD2-B952-4FA8-80EC-B096E77E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0A75-40C3-42D7-8FFE-C1C3103E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F07-CCAA-4F39-91F8-C5CEC05E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F688-B5B8-42B8-B46D-E4B0DC43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68B-EB54-4FA2-B3EF-B586C8E3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8F7-7E8B-49EE-B035-221C2471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4FBE-5A7A-4551-A4A5-42BC4E50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0582-F064-47C9-9178-BA4B88B83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-D Forc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4120" y="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638680" y="4572000"/>
            <a:ext cx="91440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571640" y="457200"/>
            <a:ext cx="1066680" cy="17524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2209680"/>
            <a:ext cx="1981080" cy="23623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45720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200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300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4952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0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20574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=240N@2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33520"/>
            <a:ext cx="32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ing the vector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tip to tail”, regardless of the order, gives us the result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4495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we graphically  find how big this resultant i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5120" y="1828800"/>
            <a:ext cx="1600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9810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362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5228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67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762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direction and magnitude of the acceleration of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098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95480" y="2286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ly pushes an old fashioned lawnmower at  a constant speed of 3 m/s.  She pushes with 100 N at an angle of 6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13716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FBD and find the vertical and horizontal components of her pus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5410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friction must there b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419360" cy="2946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520" y="2286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5053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horizontal force on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43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F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49528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vertical component of the pull of the r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2031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3049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box has a mass of 8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8380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its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1240" y="297180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its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28954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normal force  that the ground pushes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675320" cy="4251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800600" y="457200"/>
            <a:ext cx="3809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dimensional forces must be summed up in the x direction alone, the y direction alone, then finally connected head to tail and added with the pythagorean theor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Multiple Forces that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right 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685800"/>
            <a:ext cx="84582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ossible Strate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metho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raw the vectors to sca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nnect the vectors head to tai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Resultant goes from head of first to the tail of the l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tical meth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Use trigonometry to resolve all vectors into X and y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dd all the x vectors to each other., then add all the y vectors to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Find the resultant with the Pythagorean Theor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6232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515280" y="4229280"/>
            <a:ext cx="2628720" cy="2628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419720" y="228600"/>
            <a:ext cx="1725480" cy="2695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124080" y="4648320"/>
            <a:ext cx="1051200" cy="1752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52280"/>
            <a:ext cx="4495680" cy="40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three cartoon creatures are trying to pull a statue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aphically find the resultant vector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t applies 100N@2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nguin 200N@24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kie Chan 300N@30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vector is whic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it move, and which 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it go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200040" y="2819520"/>
            <a:ext cx="198108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809880" y="2819520"/>
            <a:ext cx="1371600" cy="24382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2819520"/>
            <a:ext cx="2438640" cy="266688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80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990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686800" y="762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72400" y="152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762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96080" y="160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4120" y="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724280" y="457200"/>
            <a:ext cx="91440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571640" y="457200"/>
            <a:ext cx="1066680" cy="17524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38680" y="457200"/>
            <a:ext cx="1981440" cy="23623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0"/>
            <a:ext cx="33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graphical vector addition to work, the arrows must be drawn at exactly the right angle using a protractor and must be drawn to scale (proportionally) using a ruler.  Check this drawing with a ruler and protr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743200"/>
            <a:ext cx="3200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1813"/>
                </a:solidFill>
                <a:latin typeface="Arial"/>
              </a:rPr>
              <a:t>The Ant applies 100N@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e Penguin 200N@2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Jackie Chan 300N@3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1:36:40Z</dcterms:created>
  <dc:creator>SOCSD</dc:creator>
  <dc:description/>
  <dc:language>en-US</dc:language>
  <cp:lastModifiedBy>SOCSD</cp:lastModifiedBy>
  <dcterms:modified xsi:type="dcterms:W3CDTF">2009-11-17T13:14:05Z</dcterms:modified>
  <cp:revision>3</cp:revision>
  <dc:subject/>
  <dc:title>Adding Multiple Forces that are not at right angles</dc:title>
</cp:coreProperties>
</file>